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5.png" ContentType="image/png"/>
  <Override PartName="/ppt/media/image24.png" ContentType="image/png"/>
  <Override PartName="/ppt/media/image21.jpeg" ContentType="image/jpeg"/>
  <Override PartName="/ppt/media/image16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E90B-09AF-4A83-9DE0-572E8CD16C1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96B5-7CBB-4C84-89A6-59646BD4406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9C70-F13F-413E-834D-F20943067E7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9914-A0BA-4DDB-913B-B56BA0B8B1A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962C-2605-4153-BF1E-218EABCE4D7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03C3-DB9F-40D2-82DC-45DF3924806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ED95-7FE8-4D4C-ACA6-9F5AE6E44C5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699F-2D9D-41CA-9077-8D1B2518CDF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B545-5DEE-425D-BA41-DC81BC40770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6401-4897-4B42-9899-9AE3B8ADAF8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50F8-70F9-4876-BF74-C7DB21DED85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F86D-68C7-4F59-8DC1-4E79BD08C2E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9329-7E71-4B24-A086-5FC31C1E66F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2B44-450B-4C0C-B99F-58C0D662353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0E6A-CD24-42B1-A7CA-9499750D618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7971-FA09-4A5E-BD85-DB3385193AB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56C2-A5A1-4BF6-AB7D-07F412BC2E3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1ECA-1B8F-4710-82FC-268F55940AF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5D06-0A47-442B-8D5A-4283EE6D590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DC15-F153-4A7B-9104-FECA0477E0F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D3F8-CBDB-4BF5-8346-60BA3A93E8E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B498-EC41-47ED-8A5C-83239716EA3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D079-D2E8-40FA-AC91-D1CD63EA147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7016-372A-46BD-B453-F5FBED80125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DFA3-9EF0-46CE-B859-AF87056D8A2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26F4-22C3-4562-8B4D-46F06DF27C3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636F-9065-4817-A6CF-035462E580C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07BC-B577-4608-8FBE-DB1A9950B78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A18C-F040-4A10-86C9-F8258470BDF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A5C9-F7A5-4B6A-BBB5-0B118349A48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0C43-901F-4DA9-BCE1-AFA76E8EA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1EF4-B1DB-4B7D-96A1-8315CD47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8E8B-5CFF-441C-A325-107A07E04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0A8A-3356-443E-AC03-2318EE3C9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D42B-0913-4214-B9CD-7C16859B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E009-36B0-4A13-BDC3-6FE10416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B095-B9C0-4B3B-AD23-5B9E012F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F348-7F69-46F6-A90C-1784F3C5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0397-8547-4698-AC7E-BA91F1A6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1EEA-8995-43FF-A337-1FB1357B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AADD-709D-4216-A912-60D3287B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020A-7C06-426E-AF87-6A5EDBEA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57A9-7D4E-4C06-911D-5E937160D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capetownskies.com/7739/01_cirrus_fluffy.htm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Cloud Typ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2"/>
          <p:cNvSpPr/>
          <p:nvPr/>
        </p:nvSpPr>
        <p:spPr>
          <a:xfrm>
            <a:off x="2514600" y="533520"/>
            <a:ext cx="3886200" cy="5638680"/>
          </a:xfrm>
          <a:custGeom>
            <a:avLst/>
            <a:gdLst>
              <a:gd name="textAreaLeft" fmla="*/ 251640 w 3886200"/>
              <a:gd name="textAreaRight" fmla="*/ 3634560 w 3886200"/>
              <a:gd name="textAreaTop" fmla="*/ 251640 h 5638680"/>
              <a:gd name="textAreaBottom" fmla="*/ 5387040 h 5638680"/>
            </a:gdLst>
            <a:ahLst/>
            <a:rect l="textAreaLeft" t="textAreaTop" r="textAreaRight" b="textAreaBottom"/>
            <a:pathLst>
              <a:path w="21600" h="31340">
                <a:moveTo>
                  <a:pt x="0" y="0"/>
                </a:moveTo>
                <a:lnTo>
                  <a:pt x="21600" y="0"/>
                </a:lnTo>
                <a:lnTo>
                  <a:pt x="21600" y="31340"/>
                </a:lnTo>
                <a:lnTo>
                  <a:pt x="0" y="31340"/>
                </a:lnTo>
                <a:close/>
              </a:path>
              <a:path fill="lightenLess" w="21600" h="313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340">
                <a:moveTo>
                  <a:pt x="21600" y="0"/>
                </a:moveTo>
                <a:lnTo>
                  <a:pt x="21600" y="31340"/>
                </a:lnTo>
                <a:lnTo>
                  <a:pt x="20200" y="29940"/>
                </a:lnTo>
                <a:lnTo>
                  <a:pt x="20200" y="1400"/>
                </a:lnTo>
                <a:close/>
              </a:path>
              <a:path fill="darkenLess" w="21600" h="31340">
                <a:moveTo>
                  <a:pt x="21600" y="31340"/>
                </a:moveTo>
                <a:lnTo>
                  <a:pt x="0" y="31340"/>
                </a:lnTo>
                <a:lnTo>
                  <a:pt x="1400" y="29940"/>
                </a:lnTo>
                <a:lnTo>
                  <a:pt x="20200" y="29940"/>
                </a:lnTo>
                <a:close/>
              </a:path>
              <a:path fill="lighten" w="21600" h="31340">
                <a:moveTo>
                  <a:pt x="0" y="313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994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cirrus UK"/>
          <p:cNvPicPr/>
          <p:nvPr/>
        </p:nvPicPr>
        <p:blipFill>
          <a:blip r:embed="rId1"/>
          <a:stretch/>
        </p:blipFill>
        <p:spPr>
          <a:xfrm>
            <a:off x="2782800" y="838080"/>
            <a:ext cx="331632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irrus Clou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rrus generally occur in fair weather and point in the direction of air movement at their elevatio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2514600" y="3505320"/>
            <a:ext cx="4495680" cy="3047760"/>
          </a:xfrm>
          <a:custGeom>
            <a:avLst/>
            <a:gdLst>
              <a:gd name="textAreaLeft" fmla="*/ 197280 w 4495680"/>
              <a:gd name="textAreaRight" fmla="*/ 4298400 w 4495680"/>
              <a:gd name="textAreaTop" fmla="*/ 197280 h 3047760"/>
              <a:gd name="textAreaBottom" fmla="*/ 2850480 h 3047760"/>
            </a:gdLst>
            <a:ahLst/>
            <a:rect l="textAreaLeft" t="textAreaTop" r="textAreaRight" b="textAreaBottom"/>
            <a:pathLst>
              <a:path w="31860" h="21600">
                <a:moveTo>
                  <a:pt x="0" y="0"/>
                </a:moveTo>
                <a:lnTo>
                  <a:pt x="31860" y="0"/>
                </a:lnTo>
                <a:lnTo>
                  <a:pt x="31860" y="21600"/>
                </a:lnTo>
                <a:lnTo>
                  <a:pt x="0" y="21600"/>
                </a:lnTo>
                <a:close/>
              </a:path>
              <a:path fill="lightenLess" w="31860" h="21600">
                <a:moveTo>
                  <a:pt x="0" y="0"/>
                </a:moveTo>
                <a:lnTo>
                  <a:pt x="31860" y="0"/>
                </a:lnTo>
                <a:lnTo>
                  <a:pt x="30461" y="1400"/>
                </a:lnTo>
                <a:lnTo>
                  <a:pt x="1400" y="1400"/>
                </a:lnTo>
                <a:close/>
              </a:path>
              <a:path fill="darken" w="31860" h="21600">
                <a:moveTo>
                  <a:pt x="31860" y="0"/>
                </a:moveTo>
                <a:lnTo>
                  <a:pt x="31860" y="21600"/>
                </a:lnTo>
                <a:lnTo>
                  <a:pt x="30461" y="20200"/>
                </a:lnTo>
                <a:lnTo>
                  <a:pt x="30461" y="1400"/>
                </a:lnTo>
                <a:close/>
              </a:path>
              <a:path fill="darkenLess" w="31860" h="21600">
                <a:moveTo>
                  <a:pt x="318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461" y="20200"/>
                </a:lnTo>
                <a:close/>
              </a:path>
              <a:path fill="lighten" w="318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cirrus shape"/>
          <p:cNvPicPr/>
          <p:nvPr/>
        </p:nvPicPr>
        <p:blipFill>
          <a:blip r:embed="rId1"/>
          <a:stretch/>
        </p:blipFill>
        <p:spPr>
          <a:xfrm>
            <a:off x="2819520" y="3747960"/>
            <a:ext cx="396216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2"/>
          <p:cNvSpPr/>
          <p:nvPr/>
        </p:nvSpPr>
        <p:spPr>
          <a:xfrm>
            <a:off x="762120" y="1600200"/>
            <a:ext cx="7696080" cy="4952880"/>
          </a:xfrm>
          <a:custGeom>
            <a:avLst/>
            <a:gdLst>
              <a:gd name="textAreaLeft" fmla="*/ 320760 w 7696080"/>
              <a:gd name="textAreaRight" fmla="*/ 7375320 w 7696080"/>
              <a:gd name="textAreaTop" fmla="*/ 320760 h 4952880"/>
              <a:gd name="textAreaBottom" fmla="*/ 4632120 h 4952880"/>
            </a:gdLst>
            <a:ahLst/>
            <a:rect l="textAreaLeft" t="textAreaTop" r="textAreaRight" b="textAreaBottom"/>
            <a:pathLst>
              <a:path w="33562" h="21600">
                <a:moveTo>
                  <a:pt x="0" y="0"/>
                </a:moveTo>
                <a:lnTo>
                  <a:pt x="33562" y="0"/>
                </a:lnTo>
                <a:lnTo>
                  <a:pt x="33562" y="21600"/>
                </a:lnTo>
                <a:lnTo>
                  <a:pt x="0" y="21600"/>
                </a:lnTo>
                <a:close/>
              </a:path>
              <a:path fill="lightenLess" w="33562" h="21600">
                <a:moveTo>
                  <a:pt x="0" y="0"/>
                </a:moveTo>
                <a:lnTo>
                  <a:pt x="33562" y="0"/>
                </a:lnTo>
                <a:lnTo>
                  <a:pt x="32163" y="1400"/>
                </a:lnTo>
                <a:lnTo>
                  <a:pt x="1400" y="1400"/>
                </a:lnTo>
                <a:close/>
              </a:path>
              <a:path fill="darken" w="33562" h="21600">
                <a:moveTo>
                  <a:pt x="33562" y="0"/>
                </a:moveTo>
                <a:lnTo>
                  <a:pt x="33562" y="21600"/>
                </a:lnTo>
                <a:lnTo>
                  <a:pt x="32163" y="20200"/>
                </a:lnTo>
                <a:lnTo>
                  <a:pt x="32163" y="1400"/>
                </a:lnTo>
                <a:close/>
              </a:path>
              <a:path fill="darkenLess" w="33562" h="21600">
                <a:moveTo>
                  <a:pt x="335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63" y="20200"/>
                </a:lnTo>
                <a:close/>
              </a:path>
              <a:path fill="lighten" w="335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irrus Clou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crs2"/>
          <p:cNvPicPr/>
          <p:nvPr/>
        </p:nvPicPr>
        <p:blipFill>
          <a:blip r:embed="rId1"/>
          <a:stretch/>
        </p:blipFill>
        <p:spPr>
          <a:xfrm>
            <a:off x="1231920" y="1946160"/>
            <a:ext cx="678168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Low Clouds = Stratus</a:t>
            </a:r>
            <a:br>
              <a:rPr sz="48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trat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tratocumul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Nimbostrat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04920" y="457200"/>
            <a:ext cx="8534160" cy="44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ratus Cloud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ow clouds are of made of water droplets.  However, when temperatures are cold enough, these clouds may also contain ice particles and snow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>
            <a:off x="533520" y="1066680"/>
            <a:ext cx="8076960" cy="5562720"/>
          </a:xfrm>
          <a:custGeom>
            <a:avLst/>
            <a:gdLst>
              <a:gd name="textAreaLeft" fmla="*/ 360360 w 8076960"/>
              <a:gd name="textAreaRight" fmla="*/ 7716600 w 8076960"/>
              <a:gd name="textAreaTop" fmla="*/ 360360 h 5562720"/>
              <a:gd name="textAreaBottom" fmla="*/ 5202360 h 5562720"/>
            </a:gdLst>
            <a:ahLst/>
            <a:rect l="textAreaLeft" t="textAreaTop" r="textAreaRight" b="textAreaBottom"/>
            <a:pathLst>
              <a:path w="31362" h="21600">
                <a:moveTo>
                  <a:pt x="0" y="0"/>
                </a:moveTo>
                <a:lnTo>
                  <a:pt x="31362" y="0"/>
                </a:lnTo>
                <a:lnTo>
                  <a:pt x="31362" y="21600"/>
                </a:lnTo>
                <a:lnTo>
                  <a:pt x="0" y="21600"/>
                </a:lnTo>
                <a:close/>
              </a:path>
              <a:path fill="lightenLess" w="31362" h="21600">
                <a:moveTo>
                  <a:pt x="0" y="0"/>
                </a:moveTo>
                <a:lnTo>
                  <a:pt x="31362" y="0"/>
                </a:lnTo>
                <a:lnTo>
                  <a:pt x="29962" y="1400"/>
                </a:lnTo>
                <a:lnTo>
                  <a:pt x="1400" y="1400"/>
                </a:lnTo>
                <a:close/>
              </a:path>
              <a:path fill="darken" w="31362" h="21600">
                <a:moveTo>
                  <a:pt x="31362" y="0"/>
                </a:moveTo>
                <a:lnTo>
                  <a:pt x="31362" y="21600"/>
                </a:lnTo>
                <a:lnTo>
                  <a:pt x="29962" y="20200"/>
                </a:lnTo>
                <a:lnTo>
                  <a:pt x="29962" y="1400"/>
                </a:lnTo>
                <a:close/>
              </a:path>
              <a:path fill="darkenLess" w="31362" h="21600">
                <a:moveTo>
                  <a:pt x="31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62" y="20200"/>
                </a:lnTo>
                <a:close/>
              </a:path>
              <a:path fill="lighten" w="31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04920" y="21276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ratus Cloud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home3"/>
          <p:cNvPicPr/>
          <p:nvPr/>
        </p:nvPicPr>
        <p:blipFill>
          <a:blip r:embed="rId1"/>
          <a:stretch/>
        </p:blipFill>
        <p:spPr>
          <a:xfrm>
            <a:off x="990720" y="1447920"/>
            <a:ext cx="708660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2"/>
          <p:cNvSpPr/>
          <p:nvPr/>
        </p:nvSpPr>
        <p:spPr>
          <a:xfrm>
            <a:off x="533520" y="1066680"/>
            <a:ext cx="8076960" cy="5562720"/>
          </a:xfrm>
          <a:custGeom>
            <a:avLst/>
            <a:gdLst>
              <a:gd name="textAreaLeft" fmla="*/ 360360 w 8076960"/>
              <a:gd name="textAreaRight" fmla="*/ 7716600 w 8076960"/>
              <a:gd name="textAreaTop" fmla="*/ 360360 h 5562720"/>
              <a:gd name="textAreaBottom" fmla="*/ 5202360 h 5562720"/>
            </a:gdLst>
            <a:ahLst/>
            <a:rect l="textAreaLeft" t="textAreaTop" r="textAreaRight" b="textAreaBottom"/>
            <a:pathLst>
              <a:path w="31362" h="21600">
                <a:moveTo>
                  <a:pt x="0" y="0"/>
                </a:moveTo>
                <a:lnTo>
                  <a:pt x="31362" y="0"/>
                </a:lnTo>
                <a:lnTo>
                  <a:pt x="31362" y="21600"/>
                </a:lnTo>
                <a:lnTo>
                  <a:pt x="0" y="21600"/>
                </a:lnTo>
                <a:close/>
              </a:path>
              <a:path fill="lightenLess" w="31362" h="21600">
                <a:moveTo>
                  <a:pt x="0" y="0"/>
                </a:moveTo>
                <a:lnTo>
                  <a:pt x="31362" y="0"/>
                </a:lnTo>
                <a:lnTo>
                  <a:pt x="29962" y="1400"/>
                </a:lnTo>
                <a:lnTo>
                  <a:pt x="1400" y="1400"/>
                </a:lnTo>
                <a:close/>
              </a:path>
              <a:path fill="darken" w="31362" h="21600">
                <a:moveTo>
                  <a:pt x="31362" y="0"/>
                </a:moveTo>
                <a:lnTo>
                  <a:pt x="31362" y="21600"/>
                </a:lnTo>
                <a:lnTo>
                  <a:pt x="29962" y="20200"/>
                </a:lnTo>
                <a:lnTo>
                  <a:pt x="29962" y="1400"/>
                </a:lnTo>
                <a:close/>
              </a:path>
              <a:path fill="darkenLess" w="31362" h="21600">
                <a:moveTo>
                  <a:pt x="31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62" y="20200"/>
                </a:lnTo>
                <a:close/>
              </a:path>
              <a:path fill="lighten" w="31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04920" y="21276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ratus Cloud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stratocumulus with blue sky in gaps"/>
          <p:cNvPicPr/>
          <p:nvPr/>
        </p:nvPicPr>
        <p:blipFill>
          <a:blip r:embed="rId1"/>
          <a:stretch/>
        </p:blipFill>
        <p:spPr>
          <a:xfrm>
            <a:off x="1143000" y="1560600"/>
            <a:ext cx="701028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4114800" y="4191120"/>
            <a:ext cx="2895480" cy="2666880"/>
          </a:xfrm>
          <a:custGeom>
            <a:avLst/>
            <a:gdLst>
              <a:gd name="textAreaLeft" fmla="*/ 172800 w 2895480"/>
              <a:gd name="textAreaRight" fmla="*/ 2722680 w 2895480"/>
              <a:gd name="textAreaTop" fmla="*/ 172800 h 2666880"/>
              <a:gd name="textAreaBottom" fmla="*/ 2494080 h 2666880"/>
            </a:gdLst>
            <a:ahLst/>
            <a:rect l="textAreaLeft" t="textAreaTop" r="textAreaRight" b="textAreaBottom"/>
            <a:pathLst>
              <a:path w="23451" h="21600">
                <a:moveTo>
                  <a:pt x="0" y="0"/>
                </a:moveTo>
                <a:lnTo>
                  <a:pt x="23451" y="0"/>
                </a:lnTo>
                <a:lnTo>
                  <a:pt x="23451" y="21600"/>
                </a:lnTo>
                <a:lnTo>
                  <a:pt x="0" y="21600"/>
                </a:lnTo>
                <a:close/>
              </a:path>
              <a:path fill="lightenLess" w="23451" h="21600">
                <a:moveTo>
                  <a:pt x="0" y="0"/>
                </a:moveTo>
                <a:lnTo>
                  <a:pt x="23451" y="0"/>
                </a:lnTo>
                <a:lnTo>
                  <a:pt x="22051" y="1400"/>
                </a:lnTo>
                <a:lnTo>
                  <a:pt x="1400" y="1400"/>
                </a:lnTo>
                <a:close/>
              </a:path>
              <a:path fill="darken" w="23451" h="21600">
                <a:moveTo>
                  <a:pt x="23451" y="0"/>
                </a:moveTo>
                <a:lnTo>
                  <a:pt x="23451" y="21600"/>
                </a:lnTo>
                <a:lnTo>
                  <a:pt x="22051" y="20200"/>
                </a:lnTo>
                <a:lnTo>
                  <a:pt x="22051" y="1400"/>
                </a:lnTo>
                <a:close/>
              </a:path>
              <a:path fill="darkenLess" w="23451" h="21600">
                <a:moveTo>
                  <a:pt x="23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51" y="20200"/>
                </a:lnTo>
                <a:close/>
              </a:path>
              <a:path fill="lighten" w="23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743200" y="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tratu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762120" y="12193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word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ratu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omes from the Latin word that means "to spread out." Stratus clouds are horizontal, layered clouds that stretch out across the sky like a blanket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stratus"/>
          <p:cNvPicPr/>
          <p:nvPr/>
        </p:nvPicPr>
        <p:blipFill>
          <a:blip r:embed="rId1"/>
          <a:stretch/>
        </p:blipFill>
        <p:spPr>
          <a:xfrm>
            <a:off x="4343400" y="4419720"/>
            <a:ext cx="243828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tratus Clou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ratus Clouds stretch across the sky in low, large flat layers. They resemble fog, but they do not reach the ground. They often produce mist or drizzle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1676520" y="1295280"/>
            <a:ext cx="5943600" cy="4191120"/>
          </a:xfrm>
          <a:custGeom>
            <a:avLst/>
            <a:gdLst>
              <a:gd name="textAreaLeft" fmla="*/ 271440 w 5943600"/>
              <a:gd name="textAreaRight" fmla="*/ 5672160 w 5943600"/>
              <a:gd name="textAreaTop" fmla="*/ 271440 h 4191120"/>
              <a:gd name="textAreaBottom" fmla="*/ 3919680 h 4191120"/>
            </a:gdLst>
            <a:ahLst/>
            <a:rect l="textAreaLeft" t="textAreaTop" r="textAreaRight" b="textAreaBottom"/>
            <a:pathLst>
              <a:path w="30631" h="21600">
                <a:moveTo>
                  <a:pt x="0" y="0"/>
                </a:moveTo>
                <a:lnTo>
                  <a:pt x="30631" y="0"/>
                </a:lnTo>
                <a:lnTo>
                  <a:pt x="30631" y="21600"/>
                </a:lnTo>
                <a:lnTo>
                  <a:pt x="0" y="21600"/>
                </a:lnTo>
                <a:close/>
              </a:path>
              <a:path fill="lightenLess" w="30631" h="21600">
                <a:moveTo>
                  <a:pt x="0" y="0"/>
                </a:moveTo>
                <a:lnTo>
                  <a:pt x="30631" y="0"/>
                </a:lnTo>
                <a:lnTo>
                  <a:pt x="29231" y="1400"/>
                </a:lnTo>
                <a:lnTo>
                  <a:pt x="1400" y="1400"/>
                </a:lnTo>
                <a:close/>
              </a:path>
              <a:path fill="darken" w="30631" h="21600">
                <a:moveTo>
                  <a:pt x="30631" y="0"/>
                </a:moveTo>
                <a:lnTo>
                  <a:pt x="30631" y="21600"/>
                </a:lnTo>
                <a:lnTo>
                  <a:pt x="29231" y="20200"/>
                </a:lnTo>
                <a:lnTo>
                  <a:pt x="29231" y="1400"/>
                </a:lnTo>
                <a:close/>
              </a:path>
              <a:path fill="darkenLess" w="30631" h="21600">
                <a:moveTo>
                  <a:pt x="306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31" y="20200"/>
                </a:lnTo>
                <a:close/>
              </a:path>
              <a:path fill="lighten" w="306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stratus01"/>
          <p:cNvPicPr/>
          <p:nvPr/>
        </p:nvPicPr>
        <p:blipFill>
          <a:blip r:embed="rId1"/>
          <a:srcRect l="0" t="0" r="1404" b="0"/>
          <a:stretch/>
        </p:blipFill>
        <p:spPr>
          <a:xfrm>
            <a:off x="1981080" y="1600200"/>
            <a:ext cx="533412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at are cloud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cloud is made up of tiny water droplets and/or ice crystals, a snowflake is a collection of many ice crystals, and rain is just liquid water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2"/>
          <p:cNvSpPr/>
          <p:nvPr/>
        </p:nvSpPr>
        <p:spPr>
          <a:xfrm>
            <a:off x="1066680" y="1066680"/>
            <a:ext cx="7162920" cy="5105520"/>
          </a:xfrm>
          <a:custGeom>
            <a:avLst/>
            <a:gdLst>
              <a:gd name="textAreaLeft" fmla="*/ 330840 w 7162920"/>
              <a:gd name="textAreaRight" fmla="*/ 6832080 w 7162920"/>
              <a:gd name="textAreaTop" fmla="*/ 330840 h 5105520"/>
              <a:gd name="textAreaBottom" fmla="*/ 4774680 h 5105520"/>
            </a:gdLst>
            <a:ahLst/>
            <a:rect l="textAreaLeft" t="textAreaTop" r="textAreaRight" b="textAreaBottom"/>
            <a:pathLst>
              <a:path w="30304" h="21600">
                <a:moveTo>
                  <a:pt x="0" y="0"/>
                </a:moveTo>
                <a:lnTo>
                  <a:pt x="30304" y="0"/>
                </a:lnTo>
                <a:lnTo>
                  <a:pt x="30304" y="21600"/>
                </a:lnTo>
                <a:lnTo>
                  <a:pt x="0" y="21600"/>
                </a:lnTo>
                <a:close/>
              </a:path>
              <a:path fill="lightenLess" w="30304" h="21600">
                <a:moveTo>
                  <a:pt x="0" y="0"/>
                </a:moveTo>
                <a:lnTo>
                  <a:pt x="30304" y="0"/>
                </a:lnTo>
                <a:lnTo>
                  <a:pt x="28904" y="1400"/>
                </a:lnTo>
                <a:lnTo>
                  <a:pt x="1400" y="1400"/>
                </a:lnTo>
                <a:close/>
              </a:path>
              <a:path fill="darken" w="30304" h="21600">
                <a:moveTo>
                  <a:pt x="30304" y="0"/>
                </a:moveTo>
                <a:lnTo>
                  <a:pt x="30304" y="21600"/>
                </a:lnTo>
                <a:lnTo>
                  <a:pt x="28904" y="20200"/>
                </a:lnTo>
                <a:lnTo>
                  <a:pt x="28904" y="1400"/>
                </a:lnTo>
                <a:close/>
              </a:path>
              <a:path fill="darkenLess" w="30304" h="21600">
                <a:moveTo>
                  <a:pt x="30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04" y="20200"/>
                </a:lnTo>
                <a:close/>
              </a:path>
              <a:path fill="lighten" w="30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stratus14"/>
          <p:cNvPicPr/>
          <p:nvPr/>
        </p:nvPicPr>
        <p:blipFill>
          <a:blip r:embed="rId1"/>
          <a:stretch/>
        </p:blipFill>
        <p:spPr>
          <a:xfrm>
            <a:off x="1447920" y="1447920"/>
            <a:ext cx="6391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1219320" y="934920"/>
            <a:ext cx="6629400" cy="5181840"/>
          </a:xfrm>
          <a:custGeom>
            <a:avLst/>
            <a:gdLst>
              <a:gd name="textAreaLeft" fmla="*/ 335520 w 6629400"/>
              <a:gd name="textAreaRight" fmla="*/ 6293880 w 6629400"/>
              <a:gd name="textAreaTop" fmla="*/ 335520 h 5181840"/>
              <a:gd name="textAreaBottom" fmla="*/ 4846320 h 5181840"/>
            </a:gdLst>
            <a:ahLst/>
            <a:rect l="textAreaLeft" t="textAreaTop" r="textAreaRight" b="textAreaBottom"/>
            <a:pathLst>
              <a:path w="27634" h="21600">
                <a:moveTo>
                  <a:pt x="0" y="0"/>
                </a:moveTo>
                <a:lnTo>
                  <a:pt x="27634" y="0"/>
                </a:lnTo>
                <a:lnTo>
                  <a:pt x="27634" y="21600"/>
                </a:lnTo>
                <a:lnTo>
                  <a:pt x="0" y="21600"/>
                </a:lnTo>
                <a:close/>
              </a:path>
              <a:path fill="lightenLess" w="27634" h="21600">
                <a:moveTo>
                  <a:pt x="0" y="0"/>
                </a:moveTo>
                <a:lnTo>
                  <a:pt x="27634" y="0"/>
                </a:lnTo>
                <a:lnTo>
                  <a:pt x="26234" y="1400"/>
                </a:lnTo>
                <a:lnTo>
                  <a:pt x="1400" y="1400"/>
                </a:lnTo>
                <a:close/>
              </a:path>
              <a:path fill="darken" w="27634" h="21600">
                <a:moveTo>
                  <a:pt x="27634" y="0"/>
                </a:moveTo>
                <a:lnTo>
                  <a:pt x="27634" y="21600"/>
                </a:lnTo>
                <a:lnTo>
                  <a:pt x="26234" y="20200"/>
                </a:lnTo>
                <a:lnTo>
                  <a:pt x="26234" y="1400"/>
                </a:lnTo>
                <a:close/>
              </a:path>
              <a:path fill="darkenLess" w="27634" h="21600">
                <a:moveTo>
                  <a:pt x="27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34" y="20200"/>
                </a:lnTo>
                <a:close/>
              </a:path>
              <a:path fill="lighten" w="27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stratus18"/>
          <p:cNvPicPr/>
          <p:nvPr/>
        </p:nvPicPr>
        <p:blipFill>
          <a:blip r:embed="rId1"/>
          <a:stretch/>
        </p:blipFill>
        <p:spPr>
          <a:xfrm>
            <a:off x="1600200" y="1371600"/>
            <a:ext cx="58672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rtically Developed Cumulu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ou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ir weather cumulus have the appearance of floating cotton and have a lifetime of 5-40 minutes. The word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umulu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omes from the Latin word for a heap or a pile. Cumulus clouds are puffy in appearance. They look like large cotton ball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6"/>
          <p:cNvSpPr/>
          <p:nvPr/>
        </p:nvSpPr>
        <p:spPr>
          <a:xfrm>
            <a:off x="4952880" y="4038480"/>
            <a:ext cx="3886200" cy="2743200"/>
          </a:xfrm>
          <a:custGeom>
            <a:avLst/>
            <a:gdLst>
              <a:gd name="textAreaLeft" fmla="*/ 177480 w 3886200"/>
              <a:gd name="textAreaRight" fmla="*/ 3708720 w 3886200"/>
              <a:gd name="textAreaTop" fmla="*/ 177480 h 2743200"/>
              <a:gd name="textAreaBottom" fmla="*/ 2565720 h 2743200"/>
            </a:gdLst>
            <a:ahLst/>
            <a:rect l="textAreaLeft" t="textAreaTop" r="textAreaRight" b="textAreaBottom"/>
            <a:pathLst>
              <a:path w="30599" h="21600">
                <a:moveTo>
                  <a:pt x="0" y="0"/>
                </a:moveTo>
                <a:lnTo>
                  <a:pt x="30599" y="0"/>
                </a:lnTo>
                <a:lnTo>
                  <a:pt x="30599" y="21600"/>
                </a:lnTo>
                <a:lnTo>
                  <a:pt x="0" y="21600"/>
                </a:lnTo>
                <a:close/>
              </a:path>
              <a:path fill="lightenLess" w="30599" h="21600">
                <a:moveTo>
                  <a:pt x="0" y="0"/>
                </a:moveTo>
                <a:lnTo>
                  <a:pt x="30599" y="0"/>
                </a:lnTo>
                <a:lnTo>
                  <a:pt x="29199" y="1400"/>
                </a:lnTo>
                <a:lnTo>
                  <a:pt x="1400" y="1400"/>
                </a:lnTo>
                <a:close/>
              </a:path>
              <a:path fill="darken" w="30599" h="21600">
                <a:moveTo>
                  <a:pt x="30599" y="0"/>
                </a:moveTo>
                <a:lnTo>
                  <a:pt x="30599" y="21600"/>
                </a:lnTo>
                <a:lnTo>
                  <a:pt x="29199" y="20200"/>
                </a:lnTo>
                <a:lnTo>
                  <a:pt x="29199" y="1400"/>
                </a:lnTo>
                <a:close/>
              </a:path>
              <a:path fill="darkenLess" w="30599" h="21600">
                <a:moveTo>
                  <a:pt x="305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9" y="20200"/>
                </a:lnTo>
                <a:close/>
              </a:path>
              <a:path fill="lighten" w="305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umulus Cloud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mless fair weather cumulus clouds can later develop into towering cumulonimbus clouds associated with powerful thunderstorm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frcu1"/>
          <p:cNvPicPr/>
          <p:nvPr/>
        </p:nvPicPr>
        <p:blipFill>
          <a:blip r:embed="rId1"/>
          <a:stretch/>
        </p:blipFill>
        <p:spPr>
          <a:xfrm>
            <a:off x="5219640" y="4267080"/>
            <a:ext cx="3390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umu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clouds that produce heavy thunderstorms in summer are a form of cumulus clouds called cumulonimbus. Cumulonimbus clouds may extend upward for hundreds of meters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"/>
          <p:cNvSpPr/>
          <p:nvPr/>
        </p:nvSpPr>
        <p:spPr>
          <a:xfrm>
            <a:off x="1558800" y="1219320"/>
            <a:ext cx="6019920" cy="4419360"/>
          </a:xfrm>
          <a:custGeom>
            <a:avLst/>
            <a:gdLst>
              <a:gd name="textAreaLeft" fmla="*/ 286200 w 6019920"/>
              <a:gd name="textAreaRight" fmla="*/ 5733720 w 6019920"/>
              <a:gd name="textAreaTop" fmla="*/ 286200 h 4419360"/>
              <a:gd name="textAreaBottom" fmla="*/ 4133160 h 4419360"/>
            </a:gdLst>
            <a:ahLst/>
            <a:rect l="textAreaLeft" t="textAreaTop" r="textAreaRight" b="textAreaBottom"/>
            <a:pathLst>
              <a:path w="29422" h="21600">
                <a:moveTo>
                  <a:pt x="0" y="0"/>
                </a:moveTo>
                <a:lnTo>
                  <a:pt x="29422" y="0"/>
                </a:lnTo>
                <a:lnTo>
                  <a:pt x="29422" y="21600"/>
                </a:lnTo>
                <a:lnTo>
                  <a:pt x="0" y="21600"/>
                </a:lnTo>
                <a:close/>
              </a:path>
              <a:path fill="lightenLess" w="29422" h="21600">
                <a:moveTo>
                  <a:pt x="0" y="0"/>
                </a:moveTo>
                <a:lnTo>
                  <a:pt x="29422" y="0"/>
                </a:lnTo>
                <a:lnTo>
                  <a:pt x="28022" y="1400"/>
                </a:lnTo>
                <a:lnTo>
                  <a:pt x="1400" y="1400"/>
                </a:lnTo>
                <a:close/>
              </a:path>
              <a:path fill="darken" w="29422" h="21600">
                <a:moveTo>
                  <a:pt x="29422" y="0"/>
                </a:moveTo>
                <a:lnTo>
                  <a:pt x="29422" y="21600"/>
                </a:lnTo>
                <a:lnTo>
                  <a:pt x="28022" y="20200"/>
                </a:lnTo>
                <a:lnTo>
                  <a:pt x="28022" y="1400"/>
                </a:lnTo>
                <a:close/>
              </a:path>
              <a:path fill="darkenLess" w="29422" h="21600">
                <a:moveTo>
                  <a:pt x="29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22" y="20200"/>
                </a:lnTo>
                <a:close/>
              </a:path>
              <a:path fill="lighten" w="29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ir Weather Cum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clouds13"/>
          <p:cNvPicPr/>
          <p:nvPr/>
        </p:nvPicPr>
        <p:blipFill>
          <a:blip r:embed="rId1"/>
          <a:stretch/>
        </p:blipFill>
        <p:spPr>
          <a:xfrm>
            <a:off x="1909800" y="1614600"/>
            <a:ext cx="532440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/>
          <p:cNvSpPr/>
          <p:nvPr/>
        </p:nvSpPr>
        <p:spPr>
          <a:xfrm>
            <a:off x="533520" y="685800"/>
            <a:ext cx="8076960" cy="5562720"/>
          </a:xfrm>
          <a:custGeom>
            <a:avLst/>
            <a:gdLst>
              <a:gd name="textAreaLeft" fmla="*/ 360360 w 8076960"/>
              <a:gd name="textAreaRight" fmla="*/ 7716600 w 8076960"/>
              <a:gd name="textAreaTop" fmla="*/ 360360 h 5562720"/>
              <a:gd name="textAreaBottom" fmla="*/ 5202360 h 5562720"/>
            </a:gdLst>
            <a:ahLst/>
            <a:rect l="textAreaLeft" t="textAreaTop" r="textAreaRight" b="textAreaBottom"/>
            <a:pathLst>
              <a:path w="31362" h="21600">
                <a:moveTo>
                  <a:pt x="0" y="0"/>
                </a:moveTo>
                <a:lnTo>
                  <a:pt x="31362" y="0"/>
                </a:lnTo>
                <a:lnTo>
                  <a:pt x="31362" y="21600"/>
                </a:lnTo>
                <a:lnTo>
                  <a:pt x="0" y="21600"/>
                </a:lnTo>
                <a:close/>
              </a:path>
              <a:path fill="lightenLess" w="31362" h="21600">
                <a:moveTo>
                  <a:pt x="0" y="0"/>
                </a:moveTo>
                <a:lnTo>
                  <a:pt x="31362" y="0"/>
                </a:lnTo>
                <a:lnTo>
                  <a:pt x="29962" y="1400"/>
                </a:lnTo>
                <a:lnTo>
                  <a:pt x="1400" y="1400"/>
                </a:lnTo>
                <a:close/>
              </a:path>
              <a:path fill="darken" w="31362" h="21600">
                <a:moveTo>
                  <a:pt x="31362" y="0"/>
                </a:moveTo>
                <a:lnTo>
                  <a:pt x="31362" y="21600"/>
                </a:lnTo>
                <a:lnTo>
                  <a:pt x="29962" y="20200"/>
                </a:lnTo>
                <a:lnTo>
                  <a:pt x="29962" y="1400"/>
                </a:lnTo>
                <a:close/>
              </a:path>
              <a:path fill="darkenLess" w="31362" h="21600">
                <a:moveTo>
                  <a:pt x="31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62" y="20200"/>
                </a:lnTo>
                <a:close/>
              </a:path>
              <a:path fill="lighten" w="31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cumulus4"/>
          <p:cNvPicPr/>
          <p:nvPr/>
        </p:nvPicPr>
        <p:blipFill>
          <a:blip r:embed="rId1"/>
          <a:stretch/>
        </p:blipFill>
        <p:spPr>
          <a:xfrm>
            <a:off x="914400" y="985680"/>
            <a:ext cx="739152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/>
          <p:cNvSpPr/>
          <p:nvPr/>
        </p:nvSpPr>
        <p:spPr>
          <a:xfrm>
            <a:off x="533520" y="685800"/>
            <a:ext cx="8076960" cy="5562720"/>
          </a:xfrm>
          <a:custGeom>
            <a:avLst/>
            <a:gdLst>
              <a:gd name="textAreaLeft" fmla="*/ 360360 w 8076960"/>
              <a:gd name="textAreaRight" fmla="*/ 7716600 w 8076960"/>
              <a:gd name="textAreaTop" fmla="*/ 360360 h 5562720"/>
              <a:gd name="textAreaBottom" fmla="*/ 5202360 h 5562720"/>
            </a:gdLst>
            <a:ahLst/>
            <a:rect l="textAreaLeft" t="textAreaTop" r="textAreaRight" b="textAreaBottom"/>
            <a:pathLst>
              <a:path w="31362" h="21600">
                <a:moveTo>
                  <a:pt x="0" y="0"/>
                </a:moveTo>
                <a:lnTo>
                  <a:pt x="31362" y="0"/>
                </a:lnTo>
                <a:lnTo>
                  <a:pt x="31362" y="21600"/>
                </a:lnTo>
                <a:lnTo>
                  <a:pt x="0" y="21600"/>
                </a:lnTo>
                <a:close/>
              </a:path>
              <a:path fill="lightenLess" w="31362" h="21600">
                <a:moveTo>
                  <a:pt x="0" y="0"/>
                </a:moveTo>
                <a:lnTo>
                  <a:pt x="31362" y="0"/>
                </a:lnTo>
                <a:lnTo>
                  <a:pt x="29962" y="1400"/>
                </a:lnTo>
                <a:lnTo>
                  <a:pt x="1400" y="1400"/>
                </a:lnTo>
                <a:close/>
              </a:path>
              <a:path fill="darken" w="31362" h="21600">
                <a:moveTo>
                  <a:pt x="31362" y="0"/>
                </a:moveTo>
                <a:lnTo>
                  <a:pt x="31362" y="21600"/>
                </a:lnTo>
                <a:lnTo>
                  <a:pt x="29962" y="20200"/>
                </a:lnTo>
                <a:lnTo>
                  <a:pt x="29962" y="1400"/>
                </a:lnTo>
                <a:close/>
              </a:path>
              <a:path fill="darkenLess" w="31362" h="21600">
                <a:moveTo>
                  <a:pt x="31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62" y="20200"/>
                </a:lnTo>
                <a:close/>
              </a:path>
              <a:path fill="lighten" w="31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cumulus2"/>
          <p:cNvPicPr/>
          <p:nvPr/>
        </p:nvPicPr>
        <p:blipFill>
          <a:blip r:embed="rId1"/>
          <a:stretch/>
        </p:blipFill>
        <p:spPr>
          <a:xfrm>
            <a:off x="1066680" y="1066680"/>
            <a:ext cx="726120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2"/>
          <p:cNvSpPr/>
          <p:nvPr/>
        </p:nvSpPr>
        <p:spPr>
          <a:xfrm>
            <a:off x="838080" y="990720"/>
            <a:ext cx="7620120" cy="5181480"/>
          </a:xfrm>
          <a:custGeom>
            <a:avLst/>
            <a:gdLst>
              <a:gd name="textAreaLeft" fmla="*/ 335520 w 7620120"/>
              <a:gd name="textAreaRight" fmla="*/ 7284600 w 7620120"/>
              <a:gd name="textAreaTop" fmla="*/ 335520 h 5181480"/>
              <a:gd name="textAreaBottom" fmla="*/ 4845960 h 5181480"/>
            </a:gdLst>
            <a:ahLst/>
            <a:rect l="textAreaLeft" t="textAreaTop" r="textAreaRight" b="textAreaBottom"/>
            <a:pathLst>
              <a:path w="31765" h="21600">
                <a:moveTo>
                  <a:pt x="0" y="0"/>
                </a:moveTo>
                <a:lnTo>
                  <a:pt x="31765" y="0"/>
                </a:lnTo>
                <a:lnTo>
                  <a:pt x="31765" y="21600"/>
                </a:lnTo>
                <a:lnTo>
                  <a:pt x="0" y="21600"/>
                </a:lnTo>
                <a:close/>
              </a:path>
              <a:path fill="lightenLess" w="31765" h="21600">
                <a:moveTo>
                  <a:pt x="0" y="0"/>
                </a:moveTo>
                <a:lnTo>
                  <a:pt x="31765" y="0"/>
                </a:lnTo>
                <a:lnTo>
                  <a:pt x="30365" y="1400"/>
                </a:lnTo>
                <a:lnTo>
                  <a:pt x="1400" y="1400"/>
                </a:lnTo>
                <a:close/>
              </a:path>
              <a:path fill="darken" w="31765" h="21600">
                <a:moveTo>
                  <a:pt x="31765" y="0"/>
                </a:moveTo>
                <a:lnTo>
                  <a:pt x="31765" y="21600"/>
                </a:lnTo>
                <a:lnTo>
                  <a:pt x="30365" y="20200"/>
                </a:lnTo>
                <a:lnTo>
                  <a:pt x="30365" y="1400"/>
                </a:lnTo>
                <a:close/>
              </a:path>
              <a:path fill="darkenLess" w="31765" h="21600">
                <a:moveTo>
                  <a:pt x="317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65" y="20200"/>
                </a:lnTo>
                <a:close/>
              </a:path>
              <a:path fill="lighten" w="317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cumulus3"/>
          <p:cNvPicPr/>
          <p:nvPr/>
        </p:nvPicPr>
        <p:blipFill>
          <a:blip r:embed="rId1"/>
          <a:stretch/>
        </p:blipFill>
        <p:spPr>
          <a:xfrm>
            <a:off x="1371600" y="1371600"/>
            <a:ext cx="670572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cumulonimbus.jpg"/>
          <p:cNvPicPr/>
          <p:nvPr/>
        </p:nvPicPr>
        <p:blipFill>
          <a:blip r:embed="rId1"/>
          <a:stretch/>
        </p:blipFill>
        <p:spPr>
          <a:xfrm>
            <a:off x="1828800" y="349200"/>
            <a:ext cx="5254560" cy="589932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loud Nam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mes of specific types of clouds are created by combining the name of the cloud's shape with the name of the cloud's heigh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cumulonimbus2.jpg"/>
          <p:cNvPicPr/>
          <p:nvPr/>
        </p:nvPicPr>
        <p:blipFill>
          <a:blip r:embed="rId1"/>
          <a:stretch/>
        </p:blipFill>
        <p:spPr>
          <a:xfrm>
            <a:off x="682560" y="378000"/>
            <a:ext cx="7516800" cy="48891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"/>
          <p:cNvSpPr/>
          <p:nvPr/>
        </p:nvSpPr>
        <p:spPr>
          <a:xfrm>
            <a:off x="795960" y="5867280"/>
            <a:ext cx="796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mulonimbus – notice the anvil shape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anvil.png"/>
          <p:cNvPicPr/>
          <p:nvPr/>
        </p:nvPicPr>
        <p:blipFill>
          <a:blip r:embed="rId2"/>
          <a:stretch/>
        </p:blipFill>
        <p:spPr>
          <a:xfrm>
            <a:off x="2882880" y="3797280"/>
            <a:ext cx="31701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riting Activity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rite a paragraph about one type of cloud.  Include 3 or more facts about the clou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ou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re are 3 main types of cloud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mulus or fluffy clou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atus or layered clou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rrus or thin feathery clou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2"/>
          <p:cNvGrpSpPr/>
          <p:nvPr/>
        </p:nvGrpSpPr>
        <p:grpSpPr>
          <a:xfrm>
            <a:off x="304920" y="3657600"/>
            <a:ext cx="3200400" cy="2852280"/>
            <a:chOff x="304920" y="3657600"/>
            <a:chExt cx="3200400" cy="2852280"/>
          </a:xfrm>
        </p:grpSpPr>
        <p:pic>
          <p:nvPicPr>
            <p:cNvPr id="56" name="Picture 5" descr="cumulus5.jpg (2658 bytes)"/>
            <p:cNvPicPr/>
            <p:nvPr/>
          </p:nvPicPr>
          <p:blipFill>
            <a:blip r:embed="rId1"/>
            <a:stretch/>
          </p:blipFill>
          <p:spPr>
            <a:xfrm>
              <a:off x="304920" y="3657600"/>
              <a:ext cx="2819160" cy="22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9"/>
            <p:cNvSpPr/>
            <p:nvPr/>
          </p:nvSpPr>
          <p:spPr>
            <a:xfrm>
              <a:off x="609480" y="5867280"/>
              <a:ext cx="28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umulus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7"/>
          <p:cNvGrpSpPr/>
          <p:nvPr/>
        </p:nvGrpSpPr>
        <p:grpSpPr>
          <a:xfrm>
            <a:off x="6248520" y="3657600"/>
            <a:ext cx="2743200" cy="2852280"/>
            <a:chOff x="6248520" y="3657600"/>
            <a:chExt cx="2743200" cy="2852280"/>
          </a:xfrm>
        </p:grpSpPr>
        <p:pic>
          <p:nvPicPr>
            <p:cNvPr id="59" name="Picture 13" descr="fluffy cirrus">
              <a:hlinkClick r:id="rId2"/>
            </p:cNvPr>
            <p:cNvPicPr/>
            <p:nvPr/>
          </p:nvPicPr>
          <p:blipFill>
            <a:blip r:embed="rId3"/>
            <a:srcRect l="0" t="0" r="20024" b="0"/>
            <a:stretch/>
          </p:blipFill>
          <p:spPr>
            <a:xfrm>
              <a:off x="6248520" y="3657600"/>
              <a:ext cx="2743200" cy="22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Rectangle 14"/>
            <p:cNvSpPr/>
            <p:nvPr/>
          </p:nvSpPr>
          <p:spPr>
            <a:xfrm>
              <a:off x="6929280" y="5867280"/>
              <a:ext cx="1527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irrus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21"/>
          <p:cNvGrpSpPr/>
          <p:nvPr/>
        </p:nvGrpSpPr>
        <p:grpSpPr>
          <a:xfrm>
            <a:off x="3352680" y="3657600"/>
            <a:ext cx="2667240" cy="2852280"/>
            <a:chOff x="3352680" y="3657600"/>
            <a:chExt cx="2667240" cy="2852280"/>
          </a:xfrm>
        </p:grpSpPr>
        <p:sp>
          <p:nvSpPr>
            <p:cNvPr id="62" name="Rectangle 11"/>
            <p:cNvSpPr/>
            <p:nvPr/>
          </p:nvSpPr>
          <p:spPr>
            <a:xfrm>
              <a:off x="3728520" y="5867280"/>
              <a:ext cx="1756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Stratus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19" descr="stratus"/>
            <p:cNvPicPr/>
            <p:nvPr/>
          </p:nvPicPr>
          <p:blipFill>
            <a:blip r:embed="rId4"/>
            <a:stretch/>
          </p:blipFill>
          <p:spPr>
            <a:xfrm>
              <a:off x="3352680" y="3657600"/>
              <a:ext cx="2667240" cy="2216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2"/>
          <p:cNvSpPr/>
          <p:nvPr/>
        </p:nvSpPr>
        <p:spPr>
          <a:xfrm>
            <a:off x="1066680" y="1676520"/>
            <a:ext cx="7391520" cy="4724280"/>
          </a:xfrm>
          <a:custGeom>
            <a:avLst/>
            <a:gdLst>
              <a:gd name="textAreaLeft" fmla="*/ 306000 w 7391520"/>
              <a:gd name="textAreaRight" fmla="*/ 7085520 w 7391520"/>
              <a:gd name="textAreaTop" fmla="*/ 306000 h 4724280"/>
              <a:gd name="textAreaBottom" fmla="*/ 4418280 h 4724280"/>
            </a:gdLst>
            <a:ahLst/>
            <a:rect l="textAreaLeft" t="textAreaTop" r="textAreaRight" b="textAreaBottom"/>
            <a:pathLst>
              <a:path w="33794" h="21600">
                <a:moveTo>
                  <a:pt x="0" y="0"/>
                </a:moveTo>
                <a:lnTo>
                  <a:pt x="33794" y="0"/>
                </a:lnTo>
                <a:lnTo>
                  <a:pt x="33794" y="21600"/>
                </a:lnTo>
                <a:lnTo>
                  <a:pt x="0" y="21600"/>
                </a:lnTo>
                <a:close/>
              </a:path>
              <a:path fill="lightenLess" w="33794" h="21600">
                <a:moveTo>
                  <a:pt x="0" y="0"/>
                </a:moveTo>
                <a:lnTo>
                  <a:pt x="33794" y="0"/>
                </a:lnTo>
                <a:lnTo>
                  <a:pt x="32394" y="1400"/>
                </a:lnTo>
                <a:lnTo>
                  <a:pt x="1400" y="1400"/>
                </a:lnTo>
                <a:close/>
              </a:path>
              <a:path fill="darken" w="33794" h="21600">
                <a:moveTo>
                  <a:pt x="33794" y="0"/>
                </a:moveTo>
                <a:lnTo>
                  <a:pt x="33794" y="21600"/>
                </a:lnTo>
                <a:lnTo>
                  <a:pt x="32394" y="20200"/>
                </a:lnTo>
                <a:lnTo>
                  <a:pt x="32394" y="1400"/>
                </a:lnTo>
                <a:close/>
              </a:path>
              <a:path fill="darkenLess" w="33794" h="21600">
                <a:moveTo>
                  <a:pt x="33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394" y="20200"/>
                </a:lnTo>
                <a:close/>
              </a:path>
              <a:path fill="lighten" w="33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3429000" y="68580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irru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wide angle of dawn on cirrus"/>
          <p:cNvPicPr/>
          <p:nvPr/>
        </p:nvPicPr>
        <p:blipFill>
          <a:blip r:embed="rId1"/>
          <a:stretch/>
        </p:blipFill>
        <p:spPr>
          <a:xfrm>
            <a:off x="1517760" y="2022480"/>
            <a:ext cx="64767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irr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word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irrus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es from a Latin word and means a tuft or curl of hair. Cirrus clouds are very wispy and feathery looking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2"/>
          <p:cNvSpPr/>
          <p:nvPr/>
        </p:nvSpPr>
        <p:spPr>
          <a:xfrm>
            <a:off x="1503360" y="2133720"/>
            <a:ext cx="6019920" cy="4419360"/>
          </a:xfrm>
          <a:custGeom>
            <a:avLst/>
            <a:gdLst>
              <a:gd name="textAreaLeft" fmla="*/ 286200 w 6019920"/>
              <a:gd name="textAreaRight" fmla="*/ 5733720 w 6019920"/>
              <a:gd name="textAreaTop" fmla="*/ 286200 h 4419360"/>
              <a:gd name="textAreaBottom" fmla="*/ 4133160 h 4419360"/>
            </a:gdLst>
            <a:ahLst/>
            <a:rect l="textAreaLeft" t="textAreaTop" r="textAreaRight" b="textAreaBottom"/>
            <a:pathLst>
              <a:path w="29422" h="21600">
                <a:moveTo>
                  <a:pt x="0" y="0"/>
                </a:moveTo>
                <a:lnTo>
                  <a:pt x="29422" y="0"/>
                </a:lnTo>
                <a:lnTo>
                  <a:pt x="29422" y="21600"/>
                </a:lnTo>
                <a:lnTo>
                  <a:pt x="0" y="21600"/>
                </a:lnTo>
                <a:close/>
              </a:path>
              <a:path fill="lightenLess" w="29422" h="21600">
                <a:moveTo>
                  <a:pt x="0" y="0"/>
                </a:moveTo>
                <a:lnTo>
                  <a:pt x="29422" y="0"/>
                </a:lnTo>
                <a:lnTo>
                  <a:pt x="28022" y="1400"/>
                </a:lnTo>
                <a:lnTo>
                  <a:pt x="1400" y="1400"/>
                </a:lnTo>
                <a:close/>
              </a:path>
              <a:path fill="darken" w="29422" h="21600">
                <a:moveTo>
                  <a:pt x="29422" y="0"/>
                </a:moveTo>
                <a:lnTo>
                  <a:pt x="29422" y="21600"/>
                </a:lnTo>
                <a:lnTo>
                  <a:pt x="28022" y="20200"/>
                </a:lnTo>
                <a:lnTo>
                  <a:pt x="28022" y="1400"/>
                </a:lnTo>
                <a:close/>
              </a:path>
              <a:path fill="darkenLess" w="29422" h="21600">
                <a:moveTo>
                  <a:pt x="29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22" y="20200"/>
                </a:lnTo>
                <a:close/>
              </a:path>
              <a:path fill="lighten" w="29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Cirru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long stringy cirrus clouds are called "mares' tails.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clouds10"/>
          <p:cNvPicPr/>
          <p:nvPr/>
        </p:nvPicPr>
        <p:blipFill>
          <a:blip r:embed="rId1"/>
          <a:stretch/>
        </p:blipFill>
        <p:spPr>
          <a:xfrm>
            <a:off x="1828800" y="2514600"/>
            <a:ext cx="541008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2"/>
          <p:cNvSpPr/>
          <p:nvPr/>
        </p:nvSpPr>
        <p:spPr>
          <a:xfrm>
            <a:off x="838080" y="990720"/>
            <a:ext cx="7620120" cy="5181480"/>
          </a:xfrm>
          <a:custGeom>
            <a:avLst/>
            <a:gdLst>
              <a:gd name="textAreaLeft" fmla="*/ 335520 w 7620120"/>
              <a:gd name="textAreaRight" fmla="*/ 7284600 w 7620120"/>
              <a:gd name="textAreaTop" fmla="*/ 335520 h 5181480"/>
              <a:gd name="textAreaBottom" fmla="*/ 4845960 h 5181480"/>
            </a:gdLst>
            <a:ahLst/>
            <a:rect l="textAreaLeft" t="textAreaTop" r="textAreaRight" b="textAreaBottom"/>
            <a:pathLst>
              <a:path w="31765" h="21600">
                <a:moveTo>
                  <a:pt x="0" y="0"/>
                </a:moveTo>
                <a:lnTo>
                  <a:pt x="31765" y="0"/>
                </a:lnTo>
                <a:lnTo>
                  <a:pt x="31765" y="21600"/>
                </a:lnTo>
                <a:lnTo>
                  <a:pt x="0" y="21600"/>
                </a:lnTo>
                <a:close/>
              </a:path>
              <a:path fill="lightenLess" w="31765" h="21600">
                <a:moveTo>
                  <a:pt x="0" y="0"/>
                </a:moveTo>
                <a:lnTo>
                  <a:pt x="31765" y="0"/>
                </a:lnTo>
                <a:lnTo>
                  <a:pt x="30365" y="1400"/>
                </a:lnTo>
                <a:lnTo>
                  <a:pt x="1400" y="1400"/>
                </a:lnTo>
                <a:close/>
              </a:path>
              <a:path fill="darken" w="31765" h="21600">
                <a:moveTo>
                  <a:pt x="31765" y="0"/>
                </a:moveTo>
                <a:lnTo>
                  <a:pt x="31765" y="21600"/>
                </a:lnTo>
                <a:lnTo>
                  <a:pt x="30365" y="20200"/>
                </a:lnTo>
                <a:lnTo>
                  <a:pt x="30365" y="1400"/>
                </a:lnTo>
                <a:close/>
              </a:path>
              <a:path fill="darkenLess" w="31765" h="21600">
                <a:moveTo>
                  <a:pt x="317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65" y="20200"/>
                </a:lnTo>
                <a:close/>
              </a:path>
              <a:path fill="lighten" w="317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nice cirrus"/>
          <p:cNvPicPr/>
          <p:nvPr/>
        </p:nvPicPr>
        <p:blipFill>
          <a:blip r:embed="rId1"/>
          <a:stretch/>
        </p:blipFill>
        <p:spPr>
          <a:xfrm>
            <a:off x="1295280" y="1379520"/>
            <a:ext cx="662940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"/>
          <p:cNvSpPr/>
          <p:nvPr/>
        </p:nvSpPr>
        <p:spPr>
          <a:xfrm>
            <a:off x="2778120" y="1371600"/>
            <a:ext cx="3276720" cy="4572000"/>
          </a:xfrm>
          <a:custGeom>
            <a:avLst/>
            <a:gdLst>
              <a:gd name="textAreaLeft" fmla="*/ 212040 w 3276720"/>
              <a:gd name="textAreaRight" fmla="*/ 3064680 w 3276720"/>
              <a:gd name="textAreaTop" fmla="*/ 212040 h 4572000"/>
              <a:gd name="textAreaBottom" fmla="*/ 4359960 h 4572000"/>
            </a:gdLst>
            <a:ahLst/>
            <a:rect l="textAreaLeft" t="textAreaTop" r="textAreaRight" b="textAreaBottom"/>
            <a:pathLst>
              <a:path w="21600" h="30137">
                <a:moveTo>
                  <a:pt x="0" y="0"/>
                </a:moveTo>
                <a:lnTo>
                  <a:pt x="21600" y="0"/>
                </a:lnTo>
                <a:lnTo>
                  <a:pt x="21600" y="30137"/>
                </a:lnTo>
                <a:lnTo>
                  <a:pt x="0" y="30137"/>
                </a:lnTo>
                <a:close/>
              </a:path>
              <a:path fill="lightenLess" w="21600" h="30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37">
                <a:moveTo>
                  <a:pt x="21600" y="0"/>
                </a:moveTo>
                <a:lnTo>
                  <a:pt x="21600" y="30137"/>
                </a:lnTo>
                <a:lnTo>
                  <a:pt x="20200" y="28738"/>
                </a:lnTo>
                <a:lnTo>
                  <a:pt x="20200" y="1400"/>
                </a:lnTo>
                <a:close/>
              </a:path>
              <a:path fill="darkenLess" w="21600" h="30137">
                <a:moveTo>
                  <a:pt x="21600" y="30137"/>
                </a:moveTo>
                <a:lnTo>
                  <a:pt x="0" y="30137"/>
                </a:lnTo>
                <a:lnTo>
                  <a:pt x="1400" y="28738"/>
                </a:lnTo>
                <a:lnTo>
                  <a:pt x="20200" y="28738"/>
                </a:lnTo>
                <a:close/>
              </a:path>
              <a:path fill="lighten" w="21600" h="30137">
                <a:moveTo>
                  <a:pt x="0" y="30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3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cirrus Boat"/>
          <p:cNvPicPr/>
          <p:nvPr/>
        </p:nvPicPr>
        <p:blipFill>
          <a:blip r:embed="rId1"/>
          <a:stretch/>
        </p:blipFill>
        <p:spPr>
          <a:xfrm>
            <a:off x="3124080" y="1676520"/>
            <a:ext cx="2621160" cy="40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21:45:32Z</dcterms:created>
  <dc:creator>bogue</dc:creator>
  <dc:description/>
  <dc:language>en-US</dc:language>
  <cp:lastModifiedBy>jluckey</cp:lastModifiedBy>
  <dcterms:modified xsi:type="dcterms:W3CDTF">2013-05-15T14:34:53Z</dcterms:modified>
  <cp:revision>34</cp:revision>
  <dc:subject/>
  <dc:title>Clouds</dc:title>
</cp:coreProperties>
</file>